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420E-D932-45B8-9D09-5AD4B0E2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82F-CA1A-433C-AF88-F2892844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6C9C-3CAC-45A3-8E5E-91840975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A039-8D99-4C19-8A1C-B4D84386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2281-50D5-40BE-B576-97E5E596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61D7-438E-4264-8133-DD339672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D313-43B5-4BF4-9712-46203E59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4241-31C6-41AF-B220-3BA6D6FA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3A25-FDA2-4023-B793-E745B7EF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507F-6E3E-44F4-B107-DC2575E4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B4F8-0B37-4785-BF65-F3E034FC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55B-371A-4D2C-AD4C-0B2B5C99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53BD-5871-4F61-B55C-0D05692B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84F6-3F36-4868-AA64-5E8C731F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77E9-2ED5-43E2-A665-C4D7AE7A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01A8-9C75-4242-9F77-17A891F3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408A-A20A-48CD-8318-ABF9A22B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7FF42-8862-4AD7-A8E3-376EC749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D1FA2-0DDD-441E-8879-2F6CE8A3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79A49-4542-43A6-979B-9101637C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8F255-6D6B-407F-880E-47E772EC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CE190-854C-4573-A017-4CA19734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149-C096-42D7-9655-B7923097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6B6AB-7553-4F89-8C73-39BCCC76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86304-1BE6-4036-B28C-FFA6C43C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BDC01-8AD0-461F-8442-83F01F1B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62073-D2FF-40E4-998C-2C0CDB00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3E3E2-D45F-484F-8F5A-9499D3C9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9425B-29BF-4783-8A31-1DA7F65E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072EF-5F21-4A13-B571-C8FC541F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F4CC0-08E2-458B-8193-E2BC35DA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DDD69-D07F-4BBF-AFD9-820B9106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BA20A-8739-420F-9D4F-887C0CF7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AE8-8993-453B-B365-5A287E5E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1B0B2-A428-4A45-ABAD-C02FD541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7FF61-F3CA-45E9-AE9D-A4215EBB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9DD19-02A4-451D-BC35-CB53BB84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33A06-28A8-4A7B-87A6-A1F9754A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C6F59-D7EB-4593-8942-6E597E76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834EC-14A5-4300-BD4E-67809D37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F3282-EF37-497D-86AA-7D769EB4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77068-42B5-444E-AE14-A2A2EBD5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D3D3B-73A9-4ED2-A74D-204B14F1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195B3-CF6C-4027-8D63-3EF36B4E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B52-154E-408E-AFBA-73B76D67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31109-3E9B-40DE-971D-CB986887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10F5A-E641-402D-94D9-73116AF3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3424B-9DFB-4453-861E-65C81989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48358-7310-4311-BD4F-E93EA55B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92115-F256-4A26-A277-0FC231B4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6097A-3719-47B8-95BC-C766638C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C226E-5439-42B5-88D7-4E12D7CB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FA251-BBF1-438B-9159-767F71E4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793DA-9585-48FA-B80E-8CC8D644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AA96F-5A75-4356-9469-C0E6AC3E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4B23-2314-489B-BFF2-9B60AB2B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293FA-5C02-4C88-9629-6485AD7D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7D695-6BC5-4029-AC20-6A170D60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DB64B-B98F-4176-8579-3FACB4BD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174BB-61A6-4EBC-B9D4-81E5E7B9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F6664-E731-4F79-9026-58EB5B8B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75C06-E7DD-47CB-8330-A66A5939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4C8F8-A00B-48F3-9C77-23F10DC3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11E92-5ADD-42F2-BDB6-4FC65E7A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D459F-1608-4B05-B7E3-6F9EEC98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70B27-F543-4370-BD5A-CCB4EA1F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10EA-F4A1-4E46-A2AB-A60099A8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9F931-D331-48D4-B2F2-10CA5105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A6DD2-61E0-4BED-8297-77B68ACE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5E361-130B-4BED-A9F1-8D708C98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AD367-3ED6-4026-970E-F641F00D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8D043-A499-47CE-B6BD-AF4E7D58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DB3A5-EE50-4C58-B8BA-ED13730B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F5333-F378-42C5-9F40-2EA32F43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705BC-FD99-46EE-B40E-14F780FE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7F59B-9871-4B70-94C6-E7317E01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45F18-4AF5-4B8B-832A-32FFE6F9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BA7-C0A3-4B4F-8F82-AEB38F61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2F575-905A-4262-B0A6-84C8B793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5BCCD-5D69-4FD4-B0A0-F17A4D20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502C9-AB3F-46B3-AE1F-978B5170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26E7E-E327-4EE1-A24B-62ED8F06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22D2B-0C48-4EEB-A303-3FEECA5C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7E9E8-FCE6-43E6-A680-0A90E000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89F2E-227F-4FC4-A6B1-2EDC2C79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1DCBA-05EC-4949-969D-789F88A9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F2C2A-0653-463C-B044-334C4D97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D24E3-BC96-4E49-81BD-61262298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3F9-DB8D-4BC0-A885-3ACE8DF8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B52B0-B4A3-42A7-BF43-A67D14CC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0DFCE-6C8C-4DF4-B39D-748D4AF6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3E3D6-8C41-47CE-B752-18CD9CE0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0B97A-278C-408E-B8FF-AE18AD2F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7EEC3-261A-4FB6-B47F-46F99FF5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70FA9-CB15-4E5E-BE41-5DAA2027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71BC9-458E-408B-ACFE-C6225423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DF36-5DC3-4416-80C6-C955C57E66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4DF3-90AF-4535-BE02-E50416ACD4F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649F-0892-4BF4-B9AE-4334C60835F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7C1C-F268-4B85-BB70-5FD97B8442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CD2B-CEF1-478C-9A88-552D391EFD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2B56-2A9D-4B49-9491-EE1A7C9C0A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4CB6-7C54-47CE-A87A-4449B5D5582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BC64-E9A8-4110-819F-71EBA5D5B26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9.png"/><Relationship Id="rId4" Type="http://schemas.openxmlformats.org/officeDocument/2006/relationships/slide" Target="slide3.xml"/><Relationship Id="rId5" Type="http://schemas.openxmlformats.org/officeDocument/2006/relationships/image" Target="../media/image10.png"/><Relationship Id="rId6" Type="http://schemas.openxmlformats.org/officeDocument/2006/relationships/slide" Target="slide5.xml"/><Relationship Id="rId7" Type="http://schemas.openxmlformats.org/officeDocument/2006/relationships/image" Target="../media/image11.png"/><Relationship Id="rId8" Type="http://schemas.openxmlformats.org/officeDocument/2006/relationships/slide" Target="slide8.xml"/><Relationship Id="rId9" Type="http://schemas.openxmlformats.org/officeDocument/2006/relationships/image" Target="../media/image12.png"/><Relationship Id="rId10" Type="http://schemas.openxmlformats.org/officeDocument/2006/relationships/slide" Target="slide10.xml"/><Relationship Id="rId11" Type="http://schemas.openxmlformats.org/officeDocument/2006/relationships/image" Target="../media/image13.png"/><Relationship Id="rId12" Type="http://schemas.openxmlformats.org/officeDocument/2006/relationships/slide" Target="slide12.xml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4.xm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" Target="slide2.xm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" Target="slide2.xm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6.xml"/><Relationship Id="rId3" Type="http://schemas.openxmlformats.org/officeDocument/2006/relationships/image" Target="../media/image16.png"/><Relationship Id="rId4" Type="http://schemas.openxmlformats.org/officeDocument/2006/relationships/image" Target="../media/image20.png"/><Relationship Id="rId5" Type="http://schemas.openxmlformats.org/officeDocument/2006/relationships/slide" Target="slide2.xm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76440" y="828720"/>
            <a:ext cx="7785000" cy="18478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2852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Lucida Sans Unicode"/>
              </a:rPr>
              <a:t>Системы счисления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лгоритм перевода из десятеричной системы счисления в восьмеричную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делить число на 8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найти остаток от деления целой части числ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писать все остатки от деления в обратном порядк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C:\Users\kimvv\Desktop\button-1640.png"/>
          <p:cNvPicPr/>
          <p:nvPr/>
        </p:nvPicPr>
        <p:blipFill>
          <a:blip r:embed="rId3"/>
          <a:stretch/>
        </p:blipFill>
        <p:spPr>
          <a:xfrm>
            <a:off x="6227640" y="579132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68000" y="1481040"/>
            <a:ext cx="8218440" cy="13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543 в восьмеричную систему счисл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543 в восьмеричной системе равняется 103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1211400" y="2637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43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26" name="Группа 10"/>
          <p:cNvGrpSpPr/>
          <p:nvPr/>
        </p:nvGrpSpPr>
        <p:grpSpPr>
          <a:xfrm>
            <a:off x="1812960" y="2728800"/>
            <a:ext cx="503280" cy="433440"/>
            <a:chOff x="1812960" y="2728800"/>
            <a:chExt cx="503280" cy="433440"/>
          </a:xfrm>
        </p:grpSpPr>
        <p:sp>
          <p:nvSpPr>
            <p:cNvPr id="427" name="Прямая соединительная линия 6"/>
            <p:cNvSpPr/>
            <p:nvPr/>
          </p:nvSpPr>
          <p:spPr>
            <a:xfrm>
              <a:off x="1812960" y="272880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8" name="Прямая соединительная линия 7"/>
            <p:cNvSpPr/>
            <p:nvPr/>
          </p:nvSpPr>
          <p:spPr>
            <a:xfrm flipH="1">
              <a:off x="1812960" y="29462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29" name="TextBox 11"/>
          <p:cNvSpPr/>
          <p:nvPr/>
        </p:nvSpPr>
        <p:spPr>
          <a:xfrm>
            <a:off x="1845000" y="2622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TextBox 12"/>
          <p:cNvSpPr/>
          <p:nvPr/>
        </p:nvSpPr>
        <p:spPr>
          <a:xfrm>
            <a:off x="1854720" y="29527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TextBox 13"/>
          <p:cNvSpPr/>
          <p:nvPr/>
        </p:nvSpPr>
        <p:spPr>
          <a:xfrm>
            <a:off x="1230480" y="29304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3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Прямая соединительная линия 15"/>
          <p:cNvSpPr/>
          <p:nvPr/>
        </p:nvSpPr>
        <p:spPr>
          <a:xfrm>
            <a:off x="1258920" y="32702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TextBox 16"/>
          <p:cNvSpPr/>
          <p:nvPr/>
        </p:nvSpPr>
        <p:spPr>
          <a:xfrm>
            <a:off x="1490040" y="3309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34" name="Группа 17"/>
          <p:cNvGrpSpPr/>
          <p:nvPr/>
        </p:nvGrpSpPr>
        <p:grpSpPr>
          <a:xfrm>
            <a:off x="2340000" y="2982960"/>
            <a:ext cx="503280" cy="431640"/>
            <a:chOff x="2340000" y="2982960"/>
            <a:chExt cx="503280" cy="431640"/>
          </a:xfrm>
        </p:grpSpPr>
        <p:sp>
          <p:nvSpPr>
            <p:cNvPr id="435" name="Прямая соединительная линия 18"/>
            <p:cNvSpPr/>
            <p:nvPr/>
          </p:nvSpPr>
          <p:spPr>
            <a:xfrm>
              <a:off x="2340000" y="29829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6" name="Прямая соединительная линия 19"/>
            <p:cNvSpPr/>
            <p:nvPr/>
          </p:nvSpPr>
          <p:spPr>
            <a:xfrm flipH="1">
              <a:off x="2340000" y="31986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37" name="TextBox 20"/>
          <p:cNvSpPr/>
          <p:nvPr/>
        </p:nvSpPr>
        <p:spPr>
          <a:xfrm>
            <a:off x="2364120" y="290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TextBox 21"/>
          <p:cNvSpPr/>
          <p:nvPr/>
        </p:nvSpPr>
        <p:spPr>
          <a:xfrm>
            <a:off x="2379240" y="3189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TextBox 22"/>
          <p:cNvSpPr/>
          <p:nvPr/>
        </p:nvSpPr>
        <p:spPr>
          <a:xfrm>
            <a:off x="1839960" y="32288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Прямая соединительная линия 23"/>
          <p:cNvSpPr/>
          <p:nvPr/>
        </p:nvSpPr>
        <p:spPr>
          <a:xfrm>
            <a:off x="1816200" y="35305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TextBox 24"/>
          <p:cNvSpPr/>
          <p:nvPr/>
        </p:nvSpPr>
        <p:spPr>
          <a:xfrm>
            <a:off x="1999800" y="3559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42" name="Группа 25"/>
          <p:cNvGrpSpPr/>
          <p:nvPr/>
        </p:nvGrpSpPr>
        <p:grpSpPr>
          <a:xfrm>
            <a:off x="2843280" y="3198960"/>
            <a:ext cx="504720" cy="431640"/>
            <a:chOff x="2843280" y="3198960"/>
            <a:chExt cx="504720" cy="431640"/>
          </a:xfrm>
        </p:grpSpPr>
        <p:sp>
          <p:nvSpPr>
            <p:cNvPr id="443" name="Прямая соединительная линия 26"/>
            <p:cNvSpPr/>
            <p:nvPr/>
          </p:nvSpPr>
          <p:spPr>
            <a:xfrm>
              <a:off x="2843280" y="31989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4" name="Прямая соединительная линия 27"/>
            <p:cNvSpPr/>
            <p:nvPr/>
          </p:nvSpPr>
          <p:spPr>
            <a:xfrm flipH="1">
              <a:off x="2843280" y="34146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45" name="TextBox 28"/>
          <p:cNvSpPr/>
          <p:nvPr/>
        </p:nvSpPr>
        <p:spPr>
          <a:xfrm>
            <a:off x="2887200" y="314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TextBox 32"/>
          <p:cNvSpPr/>
          <p:nvPr/>
        </p:nvSpPr>
        <p:spPr>
          <a:xfrm>
            <a:off x="2925360" y="3486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TextBox 33"/>
          <p:cNvSpPr/>
          <p:nvPr/>
        </p:nvSpPr>
        <p:spPr>
          <a:xfrm>
            <a:off x="2375280" y="3409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Прямая соединительная линия 34"/>
          <p:cNvSpPr/>
          <p:nvPr/>
        </p:nvSpPr>
        <p:spPr>
          <a:xfrm>
            <a:off x="2340000" y="37209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TextBox 35"/>
          <p:cNvSpPr/>
          <p:nvPr/>
        </p:nvSpPr>
        <p:spPr>
          <a:xfrm>
            <a:off x="2493360" y="3774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Прямая соединительная линия 37"/>
          <p:cNvSpPr/>
          <p:nvPr/>
        </p:nvSpPr>
        <p:spPr>
          <a:xfrm flipH="1">
            <a:off x="2843280" y="3703680"/>
            <a:ext cx="720720" cy="5745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51" name="Прямая со стрелкой 39"/>
          <p:cNvCxnSpPr/>
          <p:nvPr/>
        </p:nvCxnSpPr>
        <p:spPr>
          <a:xfrm flipH="1" flipV="1">
            <a:off x="1042200" y="3413880"/>
            <a:ext cx="1801080" cy="864360"/>
          </a:xfrm>
          <a:prstGeom prst="straightConnector1">
            <a:avLst/>
          </a:prstGeom>
          <a:ln w="19080">
            <a:solidFill>
              <a:srgbClr val="da1f28"/>
            </a:solidFill>
            <a:miter/>
            <a:tailEnd len="med" type="arrow" w="med"/>
          </a:ln>
        </p:spPr>
      </p:cxnSp>
      <p:pic>
        <p:nvPicPr>
          <p:cNvPr id="452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лгоритм перевода из десятеричной системы счисления в шестнадцатеричную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делить число на 16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найти остаток от деления целой части числ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писать все остатки от деления в обратном порядк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C:\Users\kimvv\Desktop\button-1640.png"/>
          <p:cNvPicPr/>
          <p:nvPr/>
        </p:nvPicPr>
        <p:blipFill>
          <a:blip r:embed="rId3"/>
          <a:stretch/>
        </p:blipFill>
        <p:spPr>
          <a:xfrm>
            <a:off x="6300720" y="578016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7200" y="148104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287 в шестнадцатеричную систему счисл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287 в шестнадцатеричной системе счисления равняется 50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sp>
        <p:nvSpPr>
          <p:cNvPr id="459" name="TextBox 3"/>
          <p:cNvSpPr/>
          <p:nvPr/>
        </p:nvSpPr>
        <p:spPr>
          <a:xfrm>
            <a:off x="1074600" y="27082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28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0" name="Группа 4"/>
          <p:cNvGrpSpPr/>
          <p:nvPr/>
        </p:nvGrpSpPr>
        <p:grpSpPr>
          <a:xfrm>
            <a:off x="1812960" y="2816280"/>
            <a:ext cx="503280" cy="431640"/>
            <a:chOff x="1812960" y="2816280"/>
            <a:chExt cx="503280" cy="431640"/>
          </a:xfrm>
        </p:grpSpPr>
        <p:sp>
          <p:nvSpPr>
            <p:cNvPr id="461" name="Прямая соединительная линия 5"/>
            <p:cNvSpPr/>
            <p:nvPr/>
          </p:nvSpPr>
          <p:spPr>
            <a:xfrm>
              <a:off x="1812960" y="2816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2" name="Прямая соединительная линия 6"/>
            <p:cNvSpPr/>
            <p:nvPr/>
          </p:nvSpPr>
          <p:spPr>
            <a:xfrm flipH="1">
              <a:off x="1812960" y="30319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63" name="TextBox 7"/>
          <p:cNvSpPr/>
          <p:nvPr/>
        </p:nvSpPr>
        <p:spPr>
          <a:xfrm>
            <a:off x="1851840" y="270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TextBox 8"/>
          <p:cNvSpPr/>
          <p:nvPr/>
        </p:nvSpPr>
        <p:spPr>
          <a:xfrm>
            <a:off x="1854720" y="3040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TextBox 9"/>
          <p:cNvSpPr/>
          <p:nvPr/>
        </p:nvSpPr>
        <p:spPr>
          <a:xfrm>
            <a:off x="1077840" y="29973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28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Прямая соединительная линия 10"/>
          <p:cNvSpPr/>
          <p:nvPr/>
        </p:nvSpPr>
        <p:spPr>
          <a:xfrm>
            <a:off x="125892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TextBox 11"/>
          <p:cNvSpPr/>
          <p:nvPr/>
        </p:nvSpPr>
        <p:spPr>
          <a:xfrm>
            <a:off x="1490040" y="3397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8" name="Группа 12"/>
          <p:cNvGrpSpPr/>
          <p:nvPr/>
        </p:nvGrpSpPr>
        <p:grpSpPr>
          <a:xfrm>
            <a:off x="2340000" y="3068640"/>
            <a:ext cx="503280" cy="431640"/>
            <a:chOff x="2340000" y="3068640"/>
            <a:chExt cx="503280" cy="431640"/>
          </a:xfrm>
        </p:grpSpPr>
        <p:sp>
          <p:nvSpPr>
            <p:cNvPr id="469" name="Прямая соединительная линия 13"/>
            <p:cNvSpPr/>
            <p:nvPr/>
          </p:nvSpPr>
          <p:spPr>
            <a:xfrm>
              <a:off x="2340000" y="3068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70" name="Прямая соединительная линия 14"/>
            <p:cNvSpPr/>
            <p:nvPr/>
          </p:nvSpPr>
          <p:spPr>
            <a:xfrm flipH="1">
              <a:off x="2340000" y="328428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71" name="TextBox 15"/>
          <p:cNvSpPr/>
          <p:nvPr/>
        </p:nvSpPr>
        <p:spPr>
          <a:xfrm>
            <a:off x="2371680" y="29941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TextBox 16"/>
          <p:cNvSpPr/>
          <p:nvPr/>
        </p:nvSpPr>
        <p:spPr>
          <a:xfrm>
            <a:off x="2379240" y="3274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TextBox 17"/>
          <p:cNvSpPr/>
          <p:nvPr/>
        </p:nvSpPr>
        <p:spPr>
          <a:xfrm>
            <a:off x="1839960" y="3314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Прямая соединительная линия 18"/>
          <p:cNvSpPr/>
          <p:nvPr/>
        </p:nvSpPr>
        <p:spPr>
          <a:xfrm>
            <a:off x="1816200" y="36162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TextBox 19"/>
          <p:cNvSpPr/>
          <p:nvPr/>
        </p:nvSpPr>
        <p:spPr>
          <a:xfrm>
            <a:off x="1999800" y="364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Прямая соединительная линия 28"/>
          <p:cNvSpPr/>
          <p:nvPr/>
        </p:nvSpPr>
        <p:spPr>
          <a:xfrm flipH="1">
            <a:off x="2268360" y="3500280"/>
            <a:ext cx="71928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77" name="Прямая со стрелкой 29"/>
          <p:cNvCxnSpPr/>
          <p:nvPr/>
        </p:nvCxnSpPr>
        <p:spPr>
          <a:xfrm flipH="1" flipV="1">
            <a:off x="1042560" y="3499560"/>
            <a:ext cx="1226160" cy="577080"/>
          </a:xfrm>
          <a:prstGeom prst="straightConnector1">
            <a:avLst/>
          </a:prstGeom>
          <a:ln w="19080">
            <a:solidFill>
              <a:srgbClr val="da1f28"/>
            </a:solidFill>
            <a:miter/>
            <a:tailEnd len="med" type="arrow" w="med"/>
          </a:ln>
        </p:spPr>
      </p:cxnSp>
      <p:pic>
        <p:nvPicPr>
          <p:cNvPr id="478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C:\Users\kimvv\Desktop\button-926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708360" y="1989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Users\kimvv\Desktop\button-7442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116000" y="1989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C:\Users\kimvv\Desktop\button-1514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00720" y="1989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C:\Users\kimvv\Desktop\button-5312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116000" y="3645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C:\Users\kimvv\Desktop\button-4783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08360" y="3645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C:\Users\kimvv\Desktop\button-4214.pn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300720" y="364500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перевода целого двоичного числа в восьмеричное его нужно разбить на группы по три цифры, справа налево, а затем преобразовать каждую группу в восьмеричную цифру. Если в последней, левой, группе окажется меньше трех цифр, то необходимо ее дополнить слева нуля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Users\kimvv\Desktop\button-1640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348000" y="4653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C:\Users\kimvv\Desktop\button-7866.png"/>
          <p:cNvPicPr/>
          <p:nvPr/>
        </p:nvPicPr>
        <p:blipFill>
          <a:blip r:embed="rId4"/>
          <a:stretch/>
        </p:blipFill>
        <p:spPr>
          <a:xfrm>
            <a:off x="5508720" y="4653000"/>
            <a:ext cx="1676160" cy="952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C:\Users\kimvv\Desktop\505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67640" y="4581360"/>
            <a:ext cx="1081080" cy="1071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0011010 из двоичной в восьмеричную систем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. Разбиваем число на группы по три цифры начиная справа: 10 011 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2. Если первая группа состоит менее чем из трех цифр, то добавляем нули: </a:t>
            </a: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0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0 011 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3. По таблице триад находим знач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 algn="just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010 = 2, 011 = 3, 010 = 2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4. Следовательно, 10011010 в восьмеричной системе равно 23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ая соединительная линия 4"/>
          <p:cNvSpPr/>
          <p:nvPr/>
        </p:nvSpPr>
        <p:spPr>
          <a:xfrm>
            <a:off x="6300720" y="270828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Прямая соединительная линия 5"/>
          <p:cNvSpPr/>
          <p:nvPr/>
        </p:nvSpPr>
        <p:spPr>
          <a:xfrm>
            <a:off x="5554800" y="270828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Прямая соединительная линия 6"/>
          <p:cNvSpPr/>
          <p:nvPr/>
        </p:nvSpPr>
        <p:spPr>
          <a:xfrm>
            <a:off x="7885080" y="357336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Прямая соединительная линия 7"/>
          <p:cNvSpPr/>
          <p:nvPr/>
        </p:nvSpPr>
        <p:spPr>
          <a:xfrm>
            <a:off x="7139160" y="357336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Picture 4" descr="C:\Users\kimvv\Desktop\button-7866.png"/>
          <p:cNvPicPr/>
          <p:nvPr/>
        </p:nvPicPr>
        <p:blipFill>
          <a:blip r:embed="rId2"/>
          <a:stretch/>
        </p:blipFill>
        <p:spPr>
          <a:xfrm>
            <a:off x="5651640" y="5732640"/>
            <a:ext cx="1676160" cy="952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C:\Users\kimvv\Desktop\505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0720" y="5661000"/>
            <a:ext cx="107928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перевода целого двоичного числа в шестнадцатеричное его нужно разбить на группы по четыре цифры (тетрады), начиная справа, и, если в последней левой группе окажется меньше четырех цифр, дополнить ее слева нуля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360360" y="122400"/>
            <a:ext cx="8418600" cy="1304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Users\kimvv\Desktop\button-1640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348000" y="436572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C:\Users\kimvv\Desktop\button-3062.png"/>
          <p:cNvPicPr/>
          <p:nvPr/>
        </p:nvPicPr>
        <p:blipFill>
          <a:blip r:embed="rId4"/>
          <a:stretch/>
        </p:blipFill>
        <p:spPr>
          <a:xfrm>
            <a:off x="5508720" y="4365720"/>
            <a:ext cx="1676160" cy="952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C:\Users\kimvv\Desktop\505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67640" y="4292640"/>
            <a:ext cx="108108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101011010 из двоичной в шестнадцатеричную систем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. Разбиваем число на группы по четыре цифры начиная справа: 11 0101 1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2. Если первая группа состоит менее чем из трех цифр, то добавляем нули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00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1 0101 1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3. По таблице тетрад находим знач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 algn="just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0011 = 3, 0101 = 5, 1010 =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4. Следовательно, 1101011010 в Шестнадцатеричной системе равно 35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371520" y="-36360"/>
            <a:ext cx="8418600" cy="130464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ая соединительная линия 3"/>
          <p:cNvSpPr/>
          <p:nvPr/>
        </p:nvSpPr>
        <p:spPr>
          <a:xfrm>
            <a:off x="6516720" y="2565360"/>
            <a:ext cx="0" cy="5032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Прямая соединительная линия 4"/>
          <p:cNvSpPr/>
          <p:nvPr/>
        </p:nvSpPr>
        <p:spPr>
          <a:xfrm>
            <a:off x="5580000" y="2565360"/>
            <a:ext cx="0" cy="5032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Прямая соединительная линия 7"/>
          <p:cNvSpPr/>
          <p:nvPr/>
        </p:nvSpPr>
        <p:spPr>
          <a:xfrm>
            <a:off x="2843280" y="3860640"/>
            <a:ext cx="0" cy="5050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Прямая соединительная линия 8"/>
          <p:cNvSpPr/>
          <p:nvPr/>
        </p:nvSpPr>
        <p:spPr>
          <a:xfrm>
            <a:off x="1835280" y="3860640"/>
            <a:ext cx="0" cy="5050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3" descr="C:\Users\kimvv\Desktop\button-3062.png"/>
          <p:cNvPicPr/>
          <p:nvPr/>
        </p:nvPicPr>
        <p:blipFill>
          <a:blip r:embed="rId2"/>
          <a:stretch/>
        </p:blipFill>
        <p:spPr>
          <a:xfrm>
            <a:off x="6453360" y="6006960"/>
            <a:ext cx="1315800" cy="747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C:\Users\kimvv\Desktop\505.png"/>
          <p:cNvPicPr/>
          <p:nvPr/>
        </p:nvPicPr>
        <p:blipFill>
          <a:blip r:embed="rId3"/>
          <a:stretch/>
        </p:blipFill>
        <p:spPr>
          <a:xfrm>
            <a:off x="8101080" y="5932440"/>
            <a:ext cx="863640" cy="85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перевода в десятеричную систему счисления необходимо найти сумму произведений основания 2 на соответствующую степень разряд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имер: необходимо перевести число 110011 в десятеричную систему счисл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Users\Kim\Desktop\trancletedigits2.preview.png"/>
          <p:cNvPicPr/>
          <p:nvPr/>
        </p:nvPicPr>
        <p:blipFill>
          <a:blip r:embed="rId2"/>
          <a:srcRect l="1400" t="36693" r="2085" b="11829"/>
          <a:stretch/>
        </p:blipFill>
        <p:spPr>
          <a:xfrm>
            <a:off x="900000" y="4221000"/>
            <a:ext cx="7994880" cy="1440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C:\Users\kimvv\Desktop\505.png"/>
          <p:cNvPicPr/>
          <p:nvPr/>
        </p:nvPicPr>
        <p:blipFill>
          <a:blip r:embed="rId3"/>
          <a:stretch/>
        </p:blipFill>
        <p:spPr>
          <a:xfrm>
            <a:off x="7812000" y="5661000"/>
            <a:ext cx="108108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лгоритм перевода из десятеричной системы счисления в двоичную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делить число на 2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найти остаток от деления целой части числ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писать все остатки от деления в обратном порядк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7740720" y="5516640"/>
            <a:ext cx="1079280" cy="10731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Users\kimvv\Desktop\button-1640.png"/>
          <p:cNvPicPr/>
          <p:nvPr/>
        </p:nvPicPr>
        <p:blipFill>
          <a:blip r:embed="rId3"/>
          <a:stretch/>
        </p:blipFill>
        <p:spPr>
          <a:xfrm>
            <a:off x="5940360" y="551664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36 в двоичную систему счисл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36 в двоичной системе равно 100010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grpSp>
        <p:nvGrpSpPr>
          <p:cNvPr id="415" name="Группа 11266"/>
          <p:cNvGrpSpPr/>
          <p:nvPr/>
        </p:nvGrpSpPr>
        <p:grpSpPr>
          <a:xfrm>
            <a:off x="1476360" y="2421000"/>
            <a:ext cx="4390920" cy="3095640"/>
            <a:chOff x="1476360" y="2421000"/>
            <a:chExt cx="4390920" cy="3095640"/>
          </a:xfrm>
        </p:grpSpPr>
        <p:pic>
          <p:nvPicPr>
            <p:cNvPr id="416" name="Picture 2" descr="39050_html_m14312ab5"/>
            <p:cNvPicPr/>
            <p:nvPr/>
          </p:nvPicPr>
          <p:blipFill>
            <a:blip r:embed="rId2"/>
            <a:srcRect l="25195" t="32003" r="8423" b="0"/>
            <a:stretch/>
          </p:blipFill>
          <p:spPr>
            <a:xfrm>
              <a:off x="1476360" y="2421000"/>
              <a:ext cx="4390920" cy="30956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417" name="Picture 2" descr="39050_html_m14312ab5"/>
            <p:cNvPicPr/>
            <p:nvPr/>
          </p:nvPicPr>
          <p:blipFill>
            <a:blip r:embed="rId3"/>
            <a:srcRect l="63537" t="32003" r="8423" b="48725"/>
            <a:stretch/>
          </p:blipFill>
          <p:spPr>
            <a:xfrm>
              <a:off x="1476360" y="4651200"/>
              <a:ext cx="1857240" cy="865440"/>
            </a:xfrm>
            <a:prstGeom prst="rect">
              <a:avLst/>
            </a:prstGeom>
            <a:ln w="9360">
              <a:solidFill>
                <a:srgbClr val="ffffff"/>
              </a:solidFill>
              <a:round/>
            </a:ln>
          </p:spPr>
        </p:pic>
      </p:grpSp>
      <p:pic>
        <p:nvPicPr>
          <p:cNvPr id="418" name="Picture 5" descr="C:\Users\kimvv\Desktop\505.png"/>
          <p:cNvPicPr/>
          <p:nvPr/>
        </p:nvPicPr>
        <p:blipFill>
          <a:blip r:embed="rId4"/>
          <a:stretch/>
        </p:blipFill>
        <p:spPr>
          <a:xfrm>
            <a:off x="7885080" y="5784840"/>
            <a:ext cx="1079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19:01:08Z</dcterms:created>
  <dc:creator>Ким</dc:creator>
  <dc:description/>
  <dc:language>en-US</dc:language>
  <cp:lastModifiedBy>kimvv</cp:lastModifiedBy>
  <dcterms:modified xsi:type="dcterms:W3CDTF">2019-01-24T05:05:37Z</dcterms:modified>
  <cp:revision>90</cp:revision>
  <dc:subject/>
  <dc:title>Презентация PowerPoint</dc:title>
</cp:coreProperties>
</file>